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de0000"/>
              </a:solidFill>
              <a:latin typeface="AM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3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002d"/>
                </a:solidFill>
                <a:latin typeface="AMS"/>
              </a:rPr>
              <a:t>Click to move the slide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4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5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9AC1-7B9C-4F57-B032-FFBB95965A6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liennummernplatzhalter 3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0ECD-BAEB-4982-851F-C9659176D75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2580F-D7ED-4809-B518-1D5EB5BE70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77374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34760" y="4194000"/>
            <a:ext cx="77374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C56F9-701B-4CD7-AEAC-756863836F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760" y="419400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9440" y="419400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EF556-7D6D-4DEF-ACEF-C7D9956A3A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50880" y="227628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7000" y="227628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34760" y="419400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50880" y="419400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7000" y="419400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AA048-4F52-4FCC-A9A5-3F5A4D7A8F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44120" y="7729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34760" y="419400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652F8-A961-415F-B912-237A9BFBAE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9440" y="419400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34760" y="4194000"/>
            <a:ext cx="77374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77374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34760" y="4194000"/>
            <a:ext cx="77374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34760" y="419400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9440" y="419400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50880" y="227628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7000" y="227628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34760" y="419400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50880" y="419400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7000" y="419400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83448-5958-4E68-B4C0-ACAE086678A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7D40D-3750-4BA9-8DAF-88C92887A0F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9DEFD-2885-48BE-8AE1-2A5BF48FD68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180A7-2FDE-4A35-BC0A-E8500058178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71DF0-0D1F-4DE5-AE82-543072DF3D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6D2D7-2D24-41FB-B604-922E0FE64E7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44120" y="7729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09C3F-02F8-43F1-8E78-8E553095A22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34760" y="419400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AEB88-69A8-4E06-A0F5-38EE44E2A94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99440" y="419400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FC095-CA03-4EA4-BA8B-EC79605C3ED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34760" y="4194000"/>
            <a:ext cx="77374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6FFC3-AED6-45DA-A632-4F4C2912CAF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77374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34760" y="4194000"/>
            <a:ext cx="77374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966FE-46BE-4736-AE7F-4A9FEBA45E8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34760" y="419400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99440" y="419400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1AE0E-B98B-4BBC-A94E-C542330E8C7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50880" y="227628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67000" y="227628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34760" y="419400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50880" y="419400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67000" y="419400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5EB2A-0101-402B-A952-9C14D96962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6D214-1A6D-4949-BE48-938109323D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50AED-4E2D-4661-830E-8A32FF020B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4120" y="7729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E4A9F-53C1-4AE2-8FF4-B9A381BA8E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34760" y="419400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A7B48-E6CF-4B37-8E50-8B39AEA283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9440" y="419400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BF380-FEC0-436F-AEA4-CDE4D090C5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34760" y="4194000"/>
            <a:ext cx="77374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03EE5-20F6-4049-B76B-C3528D5EC5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afik 2" descr=""/>
          <p:cNvPicPr/>
          <p:nvPr/>
        </p:nvPicPr>
        <p:blipFill>
          <a:blip r:embed="rId2"/>
          <a:stretch/>
        </p:blipFill>
        <p:spPr>
          <a:xfrm>
            <a:off x="-324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002d"/>
                </a:solidFill>
                <a:latin typeface="AMS"/>
              </a:rPr>
              <a:t>Click to edit the title text format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4f9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Click to edit the outline text format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1" marL="653760" indent="-251280">
              <a:spcBef>
                <a:spcPts val="799"/>
              </a:spcBef>
              <a:buClr>
                <a:srgbClr val="004f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Second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2" marL="1005840" indent="-200880">
              <a:spcBef>
                <a:spcPts val="799"/>
              </a:spcBef>
              <a:buClr>
                <a:srgbClr val="004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Third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3" marL="1407960" indent="-200880">
              <a:spcBef>
                <a:spcPts val="799"/>
              </a:spcBef>
              <a:buClr>
                <a:srgbClr val="004f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Fourth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4" marL="1810440" indent="-200880">
              <a:spcBef>
                <a:spcPts val="799"/>
              </a:spcBef>
              <a:buClr>
                <a:srgbClr val="004f9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Fifth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Sixth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Seventh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3" name="Rectangle 17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e0000"/>
              </a:solidFill>
              <a:latin typeface="AMS"/>
            </a:endParaRPr>
          </a:p>
        </p:txBody>
      </p:sp>
      <p:sp>
        <p:nvSpPr>
          <p:cNvPr id="4" name="Rectangle 18"/>
          <p:cNvSpPr/>
          <p:nvPr/>
        </p:nvSpPr>
        <p:spPr>
          <a:xfrm>
            <a:off x="7956720" y="6496200"/>
            <a:ext cx="8744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D2F4-A296-4C82-8428-5E7188ADF0EE}" type="slidenum">
              <a:rPr b="0" lang="de-DE" sz="1400" spc="-1" strike="noStrike">
                <a:solidFill>
                  <a:srgbClr val="ffffff"/>
                </a:solidFill>
                <a:latin typeface="AMS"/>
              </a:rPr>
              <a:t>&lt;number&gt;</a:t>
            </a:fld>
            <a:endParaRPr b="1" lang="en-US" sz="1400" spc="-1" strike="noStrike">
              <a:solidFill>
                <a:srgbClr val="de0000"/>
              </a:solidFill>
              <a:latin typeface="AMS"/>
            </a:endParaRPr>
          </a:p>
        </p:txBody>
      </p:sp>
      <p:pic>
        <p:nvPicPr>
          <p:cNvPr id="5" name="Grafik 3" descr=""/>
          <p:cNvPicPr/>
          <p:nvPr/>
        </p:nvPicPr>
        <p:blipFill>
          <a:blip r:embed="rId3"/>
          <a:stretch/>
        </p:blipFill>
        <p:spPr>
          <a:xfrm>
            <a:off x="7329600" y="6068880"/>
            <a:ext cx="1260360" cy="6620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755280" y="6453360"/>
            <a:ext cx="184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95DF-B482-4703-A9C2-E719980F526C}" type="slidenum">
              <a:rPr b="0" lang="de-AT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rafik 9" descr=""/>
          <p:cNvPicPr/>
          <p:nvPr/>
        </p:nvPicPr>
        <p:blipFill>
          <a:blip r:embed="rId2"/>
          <a:stretch/>
        </p:blipFill>
        <p:spPr>
          <a:xfrm>
            <a:off x="792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Grafik 11" descr=""/>
          <p:cNvPicPr/>
          <p:nvPr/>
        </p:nvPicPr>
        <p:blipFill>
          <a:blip r:embed="rId3"/>
          <a:stretch/>
        </p:blipFill>
        <p:spPr>
          <a:xfrm>
            <a:off x="0" y="4869000"/>
            <a:ext cx="9144000" cy="20066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8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e0000"/>
              </a:solidFill>
              <a:latin typeface="AMS"/>
            </a:endParaRPr>
          </a:p>
        </p:txBody>
      </p:sp>
      <p:pic>
        <p:nvPicPr>
          <p:cNvPr id="46" name="Grafik 3" descr=""/>
          <p:cNvPicPr/>
          <p:nvPr/>
        </p:nvPicPr>
        <p:blipFill>
          <a:blip r:embed="rId4"/>
          <a:stretch/>
        </p:blipFill>
        <p:spPr>
          <a:xfrm>
            <a:off x="7042320" y="5807160"/>
            <a:ext cx="1777680" cy="934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002d"/>
                </a:solidFill>
                <a:latin typeface="AMS"/>
              </a:rPr>
              <a:t>Click to edit the title text format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4f9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Click to edit the outline text format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1" marL="653760" indent="-251280">
              <a:spcBef>
                <a:spcPts val="799"/>
              </a:spcBef>
              <a:buClr>
                <a:srgbClr val="004f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Second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2" marL="1005840" indent="-200880">
              <a:spcBef>
                <a:spcPts val="799"/>
              </a:spcBef>
              <a:buClr>
                <a:srgbClr val="004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Third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3" marL="1407960" indent="-200880">
              <a:spcBef>
                <a:spcPts val="799"/>
              </a:spcBef>
              <a:buClr>
                <a:srgbClr val="004f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Fourth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4" marL="1810440" indent="-200880">
              <a:spcBef>
                <a:spcPts val="799"/>
              </a:spcBef>
              <a:buClr>
                <a:srgbClr val="004f9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Fifth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Sixth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Seventh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Grafik 2" descr=""/>
          <p:cNvPicPr/>
          <p:nvPr/>
        </p:nvPicPr>
        <p:blipFill>
          <a:blip r:embed="rId2"/>
          <a:stretch/>
        </p:blipFill>
        <p:spPr>
          <a:xfrm>
            <a:off x="-324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7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e0000"/>
              </a:solidFill>
              <a:latin typeface="AMS"/>
            </a:endParaRPr>
          </a:p>
        </p:txBody>
      </p:sp>
      <p:sp>
        <p:nvSpPr>
          <p:cNvPr id="87" name="Rectangle 18"/>
          <p:cNvSpPr/>
          <p:nvPr/>
        </p:nvSpPr>
        <p:spPr>
          <a:xfrm>
            <a:off x="7956720" y="6496200"/>
            <a:ext cx="8744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38E1-3CE2-4558-B5E9-4DCB943FF41E}" type="slidenum">
              <a:rPr b="0" lang="de-DE" sz="1400" spc="-1" strike="noStrike">
                <a:solidFill>
                  <a:srgbClr val="ffffff"/>
                </a:solidFill>
                <a:latin typeface="AMS"/>
              </a:rPr>
              <a:t>&lt;number&gt;</a:t>
            </a:fld>
            <a:endParaRPr b="1" lang="en-US" sz="1400" spc="-1" strike="noStrike">
              <a:solidFill>
                <a:srgbClr val="de0000"/>
              </a:solidFill>
              <a:latin typeface="AMS"/>
            </a:endParaRPr>
          </a:p>
        </p:txBody>
      </p:sp>
      <p:pic>
        <p:nvPicPr>
          <p:cNvPr id="88" name="Grafik 3" descr=""/>
          <p:cNvPicPr/>
          <p:nvPr/>
        </p:nvPicPr>
        <p:blipFill>
          <a:blip r:embed="rId3"/>
          <a:stretch/>
        </p:blipFill>
        <p:spPr>
          <a:xfrm>
            <a:off x="7329600" y="6068880"/>
            <a:ext cx="1260360" cy="6620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002d"/>
                </a:solidFill>
                <a:latin typeface="AMS"/>
              </a:rPr>
              <a:t>Click to edit the title text format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4f9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Click to edit the outline text format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1" marL="653760" indent="-251280">
              <a:spcBef>
                <a:spcPts val="799"/>
              </a:spcBef>
              <a:buClr>
                <a:srgbClr val="004f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Second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2" marL="1005840" indent="-200880">
              <a:spcBef>
                <a:spcPts val="799"/>
              </a:spcBef>
              <a:buClr>
                <a:srgbClr val="004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Third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3" marL="1407960" indent="-200880">
              <a:spcBef>
                <a:spcPts val="799"/>
              </a:spcBef>
              <a:buClr>
                <a:srgbClr val="004f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Fourth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4" marL="1810440" indent="-200880">
              <a:spcBef>
                <a:spcPts val="799"/>
              </a:spcBef>
              <a:buClr>
                <a:srgbClr val="004f9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Fifth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Sixth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Seventh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2"/>
          </p:nvPr>
        </p:nvSpPr>
        <p:spPr>
          <a:xfrm>
            <a:off x="684360" y="6447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1082-FBE1-4F4B-BA02-7D9C85E718BE}" type="slidenum">
              <a:rPr b="0" lang="de-AT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058840"/>
            <a:ext cx="8459640" cy="1322640"/>
          </a:xfrm>
          <a:prstGeom prst="rect">
            <a:avLst/>
          </a:prstGeom>
          <a:noFill/>
          <a:ln w="0">
            <a:noFill/>
          </a:ln>
        </p:spPr>
        <p:txBody>
          <a:bodyPr lIns="720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MS"/>
              </a:rPr>
              <a:t>Aus- und Weiterbildung</a:t>
            </a:r>
            <a:br>
              <a:rPr sz="4000"/>
            </a:br>
            <a:r>
              <a:rPr b="1" lang="de-DE" sz="4000" spc="-1" strike="noStrike">
                <a:solidFill>
                  <a:srgbClr val="ffffff"/>
                </a:solidFill>
                <a:latin typeface="AMS"/>
              </a:rPr>
              <a:t>Kurseröffnung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-360" y="3700440"/>
            <a:ext cx="3205080" cy="449280"/>
          </a:xfrm>
          <a:prstGeom prst="rect">
            <a:avLst/>
          </a:prstGeom>
          <a:solidFill>
            <a:srgbClr val="e4002d">
              <a:alpha val="85000"/>
            </a:srgbClr>
          </a:solidFill>
          <a:ln w="0">
            <a:noFill/>
          </a:ln>
        </p:spPr>
        <p:txBody>
          <a:bodyPr lIns="720000" rIns="180000" tIns="108000" bIns="108000" anchor="ctr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ffffff"/>
                </a:solidFill>
                <a:latin typeface="AMS"/>
              </a:rPr>
              <a:t>AMS NÖ - Förderung</a:t>
            </a:r>
            <a:endParaRPr b="0" lang="en-US" sz="15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37" name="Textfeld 4"/>
          <p:cNvSpPr/>
          <p:nvPr/>
        </p:nvSpPr>
        <p:spPr>
          <a:xfrm>
            <a:off x="5148360" y="309960"/>
            <a:ext cx="34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MS"/>
                <a:ea typeface="Arial"/>
              </a:rPr>
              <a:t>Arbeitsmarktservice NÖ</a:t>
            </a:r>
            <a:endParaRPr b="1" lang="en-US" sz="1600" spc="-1" strike="noStrike">
              <a:solidFill>
                <a:srgbClr val="de0000"/>
              </a:solidFill>
              <a:latin typeface="AMS"/>
            </a:endParaRPr>
          </a:p>
        </p:txBody>
      </p:sp>
      <p:sp>
        <p:nvSpPr>
          <p:cNvPr id="138" name="Textfeld 5"/>
          <p:cNvSpPr/>
          <p:nvPr/>
        </p:nvSpPr>
        <p:spPr>
          <a:xfrm>
            <a:off x="9360" y="4149720"/>
            <a:ext cx="3419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ffffff"/>
                </a:solidFill>
                <a:latin typeface="AMS"/>
                <a:ea typeface="Arial"/>
              </a:rPr>
              <a:t>&gt;&gt;Jänner 2023&lt;&lt;</a:t>
            </a:r>
            <a:endParaRPr b="1" lang="en-US" sz="1300" spc="-1" strike="noStrike">
              <a:solidFill>
                <a:srgbClr val="de0000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4002d"/>
                </a:solidFill>
                <a:latin typeface="AMS"/>
              </a:rPr>
              <a:t>Weiterbildung nach diesem Kurs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271585"/>
                </a:solidFill>
                <a:latin typeface="AMS"/>
              </a:rPr>
              <a:t>Der Besuch eines Folge-Kurses </a:t>
            </a:r>
            <a:endParaRPr b="0" lang="en-US" sz="28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271585"/>
                </a:solidFill>
                <a:latin typeface="AMS"/>
              </a:rPr>
              <a:t>ist nur in Absprache mit Ihren </a:t>
            </a:r>
            <a:endParaRPr b="0" lang="en-US" sz="28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271585"/>
                </a:solidFill>
                <a:latin typeface="AMS"/>
              </a:rPr>
              <a:t>AMS-Berater_innen möglich.</a:t>
            </a:r>
            <a:endParaRPr b="0" lang="en-US" sz="28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71585"/>
                </a:solidFill>
                <a:latin typeface="AMS"/>
              </a:rPr>
              <a:t>www.ams.at (AMS Weiterbildungsdatenbank)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65" name="Foliennummernplatzhalter 3"/>
          <p:cNvSpPr/>
          <p:nvPr/>
        </p:nvSpPr>
        <p:spPr>
          <a:xfrm>
            <a:off x="68436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85FE-05A4-4139-8533-40120F61E9AB}" type="slidenum">
              <a:rPr b="0" lang="de-AT" sz="1200" spc="-1" strike="noStrike">
                <a:solidFill>
                  <a:srgbClr val="7f7f7f"/>
                </a:solidFill>
                <a:latin typeface="AMS"/>
                <a:ea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4002d"/>
                </a:solidFill>
                <a:latin typeface="AMS"/>
              </a:rPr>
              <a:t>Kursabschluss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67" name="Foliennummernplatzhalter 3"/>
          <p:cNvSpPr/>
          <p:nvPr/>
        </p:nvSpPr>
        <p:spPr>
          <a:xfrm>
            <a:off x="68436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372D-B639-423C-8611-0A55882C8D83}" type="slidenum">
              <a:rPr b="0" lang="de-AT" sz="1200" spc="-1" strike="noStrike">
                <a:solidFill>
                  <a:srgbClr val="7f7f7f"/>
                </a:solidFill>
                <a:latin typeface="AMS"/>
                <a:ea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734760" y="2276280"/>
            <a:ext cx="773748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271585"/>
                </a:solidFill>
                <a:latin typeface="AMS"/>
              </a:rPr>
              <a:t>Um Ihre Geldleistung auch nach dem Abschluss Ihres Kurses zu sichern, sprechen Sie bitte zum vereinbarten Termin vor.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271585"/>
                </a:solidFill>
                <a:latin typeface="AMS"/>
              </a:rPr>
              <a:t>Sollten Sie keinen Termin haben, bitte umgehend –</a:t>
            </a:r>
            <a:r>
              <a:rPr b="0" lang="de-DE" sz="2200" spc="-1" strike="noStrike">
                <a:solidFill>
                  <a:srgbClr val="271585"/>
                </a:solidFill>
                <a:latin typeface="AMS"/>
              </a:rPr>
              <a:t> spätestens am Tag nach Kursende - bei Ihrer AMS-Geschäftsstelle vorsprechen.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71585"/>
                </a:solidFill>
                <a:latin typeface="AMS"/>
              </a:rPr>
              <a:t>	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e4002d"/>
                </a:solidFill>
                <a:latin typeface="AMS"/>
              </a:rPr>
              <a:t>Teilnahme/Zertifikat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71585"/>
                </a:solidFill>
                <a:latin typeface="AMS"/>
              </a:rPr>
              <a:t>Sie erhalten nach Abschluss </a:t>
            </a:r>
            <a:br>
              <a:rPr sz="2800"/>
            </a:br>
            <a:r>
              <a:rPr b="0" lang="de-AT" sz="2800" spc="-1" strike="noStrike">
                <a:solidFill>
                  <a:srgbClr val="271585"/>
                </a:solidFill>
                <a:latin typeface="AMS"/>
              </a:rPr>
              <a:t>Ihrer Aus- und Weiterbildung eine schriftliche </a:t>
            </a:r>
            <a:r>
              <a:rPr b="1" lang="de-AT" sz="2800" spc="-1" strike="noStrike">
                <a:solidFill>
                  <a:srgbClr val="271585"/>
                </a:solidFill>
                <a:latin typeface="AMS"/>
              </a:rPr>
              <a:t>Teilnahmebestätigung</a:t>
            </a:r>
            <a:r>
              <a:rPr b="0" lang="de-AT" sz="2800" spc="-1" strike="noStrike">
                <a:solidFill>
                  <a:srgbClr val="271585"/>
                </a:solidFill>
                <a:latin typeface="AMS"/>
              </a:rPr>
              <a:t> oder ein </a:t>
            </a:r>
            <a:r>
              <a:rPr b="1" lang="de-AT" sz="2800" spc="-1" strike="noStrike">
                <a:solidFill>
                  <a:srgbClr val="271585"/>
                </a:solidFill>
                <a:latin typeface="AMS"/>
              </a:rPr>
              <a:t>Abschlusszertifikat</a:t>
            </a:r>
            <a:r>
              <a:rPr b="0" lang="de-AT" sz="2800" spc="-1" strike="noStrike">
                <a:solidFill>
                  <a:srgbClr val="271585"/>
                </a:solidFill>
                <a:latin typeface="AMS"/>
              </a:rPr>
              <a:t>!</a:t>
            </a:r>
            <a:endParaRPr b="0" lang="en-US" sz="28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71" name="Foliennummernplatzhalter 3"/>
          <p:cNvSpPr/>
          <p:nvPr/>
        </p:nvSpPr>
        <p:spPr>
          <a:xfrm>
            <a:off x="68436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14C7-C20B-49AB-9B81-5BBAC808B796}" type="slidenum">
              <a:rPr b="0" lang="de-AT" sz="1200" spc="-1" strike="noStrike">
                <a:solidFill>
                  <a:srgbClr val="7f7f7f"/>
                </a:solidFill>
                <a:latin typeface="AMS"/>
                <a:ea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4002d"/>
                </a:solidFill>
                <a:latin typeface="AMS"/>
              </a:rPr>
              <a:t>Teilnahmezufriedenheit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34760" y="2060280"/>
            <a:ext cx="7737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271585"/>
                </a:solidFill>
                <a:latin typeface="AMS"/>
              </a:rPr>
              <a:t>Sie erhalten umgehend nach Kursende den </a:t>
            </a:r>
            <a:r>
              <a:rPr b="1" lang="de-AT" sz="2200" spc="-1" strike="noStrike">
                <a:solidFill>
                  <a:srgbClr val="271585"/>
                </a:solidFill>
                <a:latin typeface="AMS"/>
              </a:rPr>
              <a:t>Link zur Teilnahmezufriedenheit</a:t>
            </a:r>
            <a:r>
              <a:rPr b="0" lang="de-AT" sz="2200" spc="-1" strike="noStrike">
                <a:solidFill>
                  <a:srgbClr val="271585"/>
                </a:solidFill>
                <a:latin typeface="AMS"/>
              </a:rPr>
              <a:t> (per eAMS Konto, E-Mail oder SMS).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271585"/>
                </a:solidFill>
                <a:latin typeface="AMS"/>
              </a:rPr>
              <a:t>Es ist sehr wichtig</a:t>
            </a:r>
            <a:r>
              <a:rPr b="0" lang="de-DE" sz="2200" spc="-1" strike="noStrike">
                <a:solidFill>
                  <a:srgbClr val="271585"/>
                </a:solidFill>
                <a:latin typeface="AMS"/>
              </a:rPr>
              <a:t>, dass Sie diese anonyme Umfrage beantworten! Nur so können wir die Qualität unserer Angebote verbessern. 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271585"/>
                </a:solidFill>
                <a:latin typeface="AMS"/>
              </a:rPr>
              <a:t>Ihr Feedback kann beeinflussen</a:t>
            </a:r>
            <a:r>
              <a:rPr b="0" lang="de-DE" sz="2200" spc="-1" strike="noStrike">
                <a:solidFill>
                  <a:srgbClr val="271585"/>
                </a:solidFill>
                <a:latin typeface="AMS"/>
              </a:rPr>
              <a:t>, ob der Kurs in dieser Form weiterhin angeboten wird.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74" name="Foliennummernplatzhalter 3"/>
          <p:cNvSpPr/>
          <p:nvPr/>
        </p:nvSpPr>
        <p:spPr>
          <a:xfrm>
            <a:off x="68436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11DB-8D6F-4FDE-AB2A-AEF5E804CEEA}" type="slidenum">
              <a:rPr b="0" lang="de-AT" sz="1200" spc="-1" strike="noStrike">
                <a:solidFill>
                  <a:srgbClr val="7f7f7f"/>
                </a:solidFill>
                <a:latin typeface="AMS"/>
                <a:ea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4002d"/>
                </a:solidFill>
                <a:latin typeface="AMS"/>
              </a:rPr>
              <a:t>Alles Gute!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755280" y="213336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71585"/>
                </a:solidFill>
                <a:latin typeface="AMS"/>
              </a:rPr>
              <a:t>Wir wünschen Ihnen für Ihren Kursbesuch und für Ihre berufliche Zukunft viel Erfolg!</a:t>
            </a:r>
            <a:endParaRPr b="0" lang="en-US" sz="2800" spc="-1" strike="noStrike">
              <a:solidFill>
                <a:srgbClr val="004f9f"/>
              </a:solidFill>
              <a:latin typeface="AMS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f9f"/>
              </a:solidFill>
              <a:latin typeface="AMS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271585"/>
                </a:solidFill>
                <a:latin typeface="AMS"/>
              </a:rPr>
              <a:t>Ihr </a:t>
            </a:r>
            <a:r>
              <a:rPr b="1" lang="de-DE" sz="2400" spc="-1" strike="noStrike">
                <a:solidFill>
                  <a:srgbClr val="271585"/>
                </a:solidFill>
                <a:latin typeface="AMS"/>
              </a:rPr>
              <a:t>Arbeitsmarktservice Niederösterreich</a:t>
            </a:r>
            <a:endParaRPr b="0" lang="en-US" sz="24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77" name="Foliennummernplatzhalter 3"/>
          <p:cNvSpPr/>
          <p:nvPr/>
        </p:nvSpPr>
        <p:spPr>
          <a:xfrm>
            <a:off x="68436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EAA9-CC76-45A9-B5CC-918232C8B8B2}" type="slidenum">
              <a:rPr b="0" lang="de-AT" sz="1200" spc="-1" strike="noStrike">
                <a:solidFill>
                  <a:srgbClr val="7f7f7f"/>
                </a:solidFill>
                <a:latin typeface="AMS"/>
                <a:ea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4002d"/>
                </a:solidFill>
                <a:latin typeface="AMS"/>
              </a:rPr>
              <a:t>AMS NÖ - Förderung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40" name="Foliennummernplatzhalter 1"/>
          <p:cNvSpPr/>
          <p:nvPr/>
        </p:nvSpPr>
        <p:spPr>
          <a:xfrm>
            <a:off x="68436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B9B6-E419-4BB0-ABB0-E5F7DCF6F117}" type="slidenum">
              <a:rPr b="0" lang="de-AT" sz="1200" spc="-1" strike="noStrike">
                <a:solidFill>
                  <a:srgbClr val="7f7f7f"/>
                </a:solidFill>
                <a:latin typeface="AMS"/>
                <a:ea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7737480" cy="32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271585"/>
                </a:solidFill>
                <a:latin typeface="AMS"/>
              </a:rPr>
              <a:t>Aus- und Weiterbildung verbessert Ihre Chancen am Arbeitsmarkt!</a:t>
            </a:r>
            <a:br>
              <a:rPr sz="2400"/>
            </a:br>
            <a:endParaRPr b="0" lang="en-US" sz="2800" spc="-1" strike="noStrike">
              <a:solidFill>
                <a:srgbClr val="004f9f"/>
              </a:solidFill>
              <a:latin typeface="AMS"/>
            </a:endParaRPr>
          </a:p>
          <a:p>
            <a:pPr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71585"/>
                </a:solidFill>
                <a:latin typeface="AMS"/>
              </a:rPr>
              <a:t>Herzlich Willkommen</a:t>
            </a:r>
            <a:endParaRPr b="0" lang="en-US" sz="2800" spc="-1" strike="noStrike">
              <a:solidFill>
                <a:srgbClr val="004f9f"/>
              </a:solidFill>
              <a:latin typeface="AMS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71585"/>
                </a:solidFill>
                <a:latin typeface="AMS"/>
              </a:rPr>
              <a:t>zum Kurs &gt;&gt;</a:t>
            </a:r>
            <a:r>
              <a:rPr b="0" lang="en-GB" sz="2400" spc="-1" strike="noStrike">
                <a:solidFill>
                  <a:srgbClr val="ff0000"/>
                </a:solidFill>
                <a:latin typeface="AMS"/>
              </a:rPr>
              <a:t>Aus- bzw. Weiterbildung</a:t>
            </a:r>
            <a:r>
              <a:rPr b="0" lang="en-GB" sz="2400" spc="-1" strike="noStrike">
                <a:solidFill>
                  <a:srgbClr val="271585"/>
                </a:solidFill>
                <a:latin typeface="AMS"/>
              </a:rPr>
              <a:t>&lt;&lt; mit &gt;&gt;</a:t>
            </a:r>
            <a:r>
              <a:rPr b="0" lang="en-GB" sz="2400" spc="-1" strike="noStrike">
                <a:solidFill>
                  <a:srgbClr val="ff0000"/>
                </a:solidFill>
                <a:latin typeface="AMS"/>
              </a:rPr>
              <a:t>Bildungsträger</a:t>
            </a:r>
            <a:r>
              <a:rPr b="0" lang="en-GB" sz="2400" spc="-1" strike="noStrike">
                <a:solidFill>
                  <a:srgbClr val="271585"/>
                </a:solidFill>
                <a:latin typeface="AMS"/>
              </a:rPr>
              <a:t>&lt;&lt;.</a:t>
            </a:r>
            <a:endParaRPr b="0" lang="en-US" sz="2400" spc="-1" strike="noStrike">
              <a:solidFill>
                <a:srgbClr val="004f9f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e4002d"/>
                </a:solidFill>
                <a:latin typeface="AMS"/>
              </a:rPr>
              <a:t>Ansprechpartner_innen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271585"/>
                </a:solidFill>
                <a:latin typeface="AMS"/>
              </a:rPr>
              <a:t>für Hilfestellungen während der Teilnahme</a:t>
            </a:r>
            <a:br>
              <a:rPr sz="2200"/>
            </a:b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271585"/>
                </a:solidFill>
                <a:latin typeface="AMS"/>
              </a:rPr>
              <a:t>Ihre Trainerin/Ihr Trainer vor Ort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271585"/>
                </a:solidFill>
                <a:latin typeface="AMS"/>
              </a:rPr>
              <a:t>AMS-Kursbetreuer_in (siehe Plakate “Ihre Meinung ist uns wichtig!”)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271585"/>
                </a:solidFill>
                <a:latin typeface="AMS"/>
              </a:rPr>
              <a:t>Ihre Beraterin/Ihr Berater via eAMS Konto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44" name="Foliennummernplatzhalter 3"/>
          <p:cNvSpPr/>
          <p:nvPr/>
        </p:nvSpPr>
        <p:spPr>
          <a:xfrm>
            <a:off x="68436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BA5C-648C-4D1B-9407-5C178A1BBC59}" type="slidenum">
              <a:rPr b="0" lang="de-AT" sz="1200" spc="-1" strike="noStrike">
                <a:solidFill>
                  <a:srgbClr val="7f7f7f"/>
                </a:solidFill>
                <a:latin typeface="AMS"/>
                <a:ea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4002d"/>
                </a:solidFill>
                <a:latin typeface="AMS"/>
              </a:rPr>
              <a:t>Förderung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71120" y="1844280"/>
            <a:ext cx="773748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271585"/>
                </a:solidFill>
                <a:latin typeface="AMS"/>
              </a:rPr>
              <a:t>Ausbildungskosten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71585"/>
                </a:solidFill>
                <a:latin typeface="AMS"/>
              </a:rPr>
              <a:t>Die Kosten für Ihre Aus- und Weiterbildung werden vom AMS Niederösterreich übernommen.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271585"/>
                </a:solidFill>
                <a:latin typeface="AMS"/>
              </a:rPr>
              <a:t>Individualförderungen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71585"/>
                </a:solidFill>
                <a:latin typeface="AMS"/>
              </a:rPr>
              <a:t>z.B.: Existenzsicherung, Kinderbetreuung, Reisekosten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71585"/>
                </a:solidFill>
                <a:latin typeface="AMS"/>
              </a:rPr>
              <a:t>Bitte nehmen Sie umgehend mit Ihrem_r AMS-Berater_in Kontakt auf.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47" name="Foliennummernplatzhalter 3"/>
          <p:cNvSpPr/>
          <p:nvPr/>
        </p:nvSpPr>
        <p:spPr>
          <a:xfrm>
            <a:off x="68436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CEF2-AAF2-48A4-BE2A-5022201F497C}" type="slidenum">
              <a:rPr b="0" lang="de-AT" sz="1200" spc="-1" strike="noStrike">
                <a:solidFill>
                  <a:srgbClr val="7f7f7f"/>
                </a:solidFill>
                <a:latin typeface="AMS"/>
                <a:ea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4480" y="77292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4002d"/>
                </a:solidFill>
                <a:latin typeface="AMS"/>
              </a:rPr>
              <a:t>Förderantrag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49" name="Foliennummernplatzhalter 3"/>
          <p:cNvSpPr/>
          <p:nvPr/>
        </p:nvSpPr>
        <p:spPr>
          <a:xfrm>
            <a:off x="68436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75D4-BEB5-469D-9FBB-EF0343B27FAB}" type="slidenum">
              <a:rPr b="0" lang="de-AT" sz="1200" spc="-1" strike="noStrike">
                <a:solidFill>
                  <a:srgbClr val="7f7f7f"/>
                </a:solidFill>
                <a:latin typeface="AMS"/>
                <a:ea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55280" y="2205000"/>
            <a:ext cx="7737480" cy="31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798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71585"/>
                </a:solidFill>
                <a:latin typeface="AMS"/>
              </a:rPr>
              <a:t>Falls Sie für Ihren Kursbesuch noch keinen Förderantrag (Begehren) gestellt haben, so tun Sie dies bitte umgehend!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lnSpc>
                <a:spcPts val="3798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71585"/>
                </a:solidFill>
                <a:latin typeface="AMS"/>
              </a:rPr>
              <a:t>Sie können diesen am einfachsten über Ihr eAMS - Konto stellen. Ihr_e Trainer_in unterstützt Sie gerne!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4002d"/>
                </a:solidFill>
                <a:latin typeface="AMS"/>
              </a:rPr>
              <a:t>Versicherung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71585"/>
                </a:solidFill>
                <a:latin typeface="AMS"/>
              </a:rPr>
              <a:t>Versicherung während Ihres Kursbesuchs</a:t>
            </a:r>
            <a:endParaRPr b="0" lang="en-US" sz="2400" spc="-1" strike="noStrike">
              <a:solidFill>
                <a:srgbClr val="004f9f"/>
              </a:solidFill>
              <a:latin typeface="AMS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71585"/>
                </a:solidFill>
                <a:latin typeface="AMS"/>
              </a:rPr>
              <a:t>Ihre Sozialversicherung enthält: </a:t>
            </a:r>
            <a:endParaRPr b="0" lang="en-US" sz="2400" spc="-1" strike="noStrike">
              <a:solidFill>
                <a:srgbClr val="004f9f"/>
              </a:solidFill>
              <a:latin typeface="AMS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71585"/>
                </a:solidFill>
                <a:latin typeface="AMS"/>
              </a:rPr>
              <a:t>Unfallversicherung</a:t>
            </a:r>
            <a:endParaRPr b="0" lang="en-US" sz="2400" spc="-1" strike="noStrike">
              <a:solidFill>
                <a:srgbClr val="004f9f"/>
              </a:solidFill>
              <a:latin typeface="AMS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71585"/>
                </a:solidFill>
                <a:latin typeface="AMS"/>
              </a:rPr>
              <a:t>Krankenversicherung</a:t>
            </a:r>
            <a:endParaRPr b="0" lang="en-US" sz="2400" spc="-1" strike="noStrike">
              <a:solidFill>
                <a:srgbClr val="004f9f"/>
              </a:solidFill>
              <a:latin typeface="AMS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71585"/>
                </a:solidFill>
                <a:latin typeface="AMS"/>
              </a:rPr>
              <a:t>Nur bei Anspruch auf Leistungen nach AlVG oder AMSG.</a:t>
            </a:r>
            <a:endParaRPr b="0" lang="en-US" sz="16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53" name="Foliennummernplatzhalter 3"/>
          <p:cNvSpPr/>
          <p:nvPr/>
        </p:nvSpPr>
        <p:spPr>
          <a:xfrm>
            <a:off x="68436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0924-F134-447C-8E92-C105E9B145B8}" type="slidenum">
              <a:rPr b="0" lang="de-AT" sz="1200" spc="-1" strike="noStrike">
                <a:solidFill>
                  <a:srgbClr val="7f7f7f"/>
                </a:solidFill>
                <a:latin typeface="AMS"/>
                <a:ea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4002d"/>
                </a:solidFill>
                <a:latin typeface="AMS"/>
              </a:rPr>
              <a:t>Abwesenheiten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755280" y="2060640"/>
            <a:ext cx="77374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spcAft>
                <a:spcPts val="1250"/>
              </a:spcAft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71585"/>
                </a:solidFill>
                <a:latin typeface="AMS"/>
              </a:rPr>
              <a:t>Jede Abwesenheit muss bis spätestens 09:00 Uhr</a:t>
            </a:r>
            <a:br>
              <a:rPr sz="2000"/>
            </a:br>
            <a:r>
              <a:rPr b="0" lang="de-DE" sz="2000" spc="-1" strike="noStrike">
                <a:solidFill>
                  <a:srgbClr val="271585"/>
                </a:solidFill>
                <a:latin typeface="AMS"/>
              </a:rPr>
              <a:t>bei Ihrem Kursinstitut gemeldet werden</a:t>
            </a:r>
            <a:r>
              <a:rPr b="0" lang="en-GB" sz="2000" spc="-1" strike="noStrike">
                <a:solidFill>
                  <a:srgbClr val="271585"/>
                </a:solidFill>
                <a:latin typeface="AMS"/>
              </a:rPr>
              <a:t> &gt;&gt;</a:t>
            </a:r>
            <a:r>
              <a:rPr b="0" lang="en-GB" sz="2000" spc="-1" strike="noStrike">
                <a:solidFill>
                  <a:srgbClr val="ff0000"/>
                </a:solidFill>
                <a:latin typeface="AMS"/>
              </a:rPr>
              <a:t>Telefonnummer</a:t>
            </a:r>
            <a:r>
              <a:rPr b="0" lang="en-GB" sz="2000" spc="-1" strike="noStrike">
                <a:solidFill>
                  <a:srgbClr val="271585"/>
                </a:solidFill>
                <a:latin typeface="AMS"/>
              </a:rPr>
              <a:t>&lt;&lt;.</a:t>
            </a:r>
            <a:endParaRPr b="0" lang="en-US" sz="2000" spc="-1" strike="noStrike">
              <a:solidFill>
                <a:srgbClr val="004f9f"/>
              </a:solidFill>
              <a:latin typeface="AMS"/>
            </a:endParaRPr>
          </a:p>
          <a:p>
            <a:pPr marL="332640" indent="-332640">
              <a:spcBef>
                <a:spcPts val="499"/>
              </a:spcBef>
              <a:spcAft>
                <a:spcPts val="1250"/>
              </a:spcAft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71585"/>
                </a:solidFill>
                <a:latin typeface="AMS"/>
              </a:rPr>
              <a:t>Für jede Abwesenheit ist eine schriftliche Bestätigung erforderlich.</a:t>
            </a:r>
            <a:endParaRPr b="0" lang="en-US" sz="2000" spc="-1" strike="noStrike">
              <a:solidFill>
                <a:srgbClr val="004f9f"/>
              </a:solidFill>
              <a:latin typeface="AMS"/>
            </a:endParaRPr>
          </a:p>
          <a:p>
            <a:pPr marL="332640" indent="-332640">
              <a:spcBef>
                <a:spcPts val="499"/>
              </a:spcBef>
              <a:spcAft>
                <a:spcPts val="1250"/>
              </a:spcAft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71585"/>
                </a:solidFill>
                <a:latin typeface="AMS"/>
              </a:rPr>
              <a:t>Arztbestätigungen ab dem ersten Tag Krankenstand.</a:t>
            </a:r>
            <a:endParaRPr b="0" lang="en-US" sz="2000" spc="-1" strike="noStrike">
              <a:solidFill>
                <a:srgbClr val="004f9f"/>
              </a:solidFill>
              <a:latin typeface="AMS"/>
            </a:endParaRPr>
          </a:p>
          <a:p>
            <a:pPr marL="332640" indent="-332640">
              <a:spcBef>
                <a:spcPts val="499"/>
              </a:spcBef>
              <a:spcAft>
                <a:spcPts val="1250"/>
              </a:spcAft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71585"/>
                </a:solidFill>
                <a:latin typeface="AMS"/>
              </a:rPr>
              <a:t>Rückmeldung nach einem Krankenstand umgehend und nur im Kurs.</a:t>
            </a:r>
            <a:endParaRPr b="0" lang="en-US" sz="2000" spc="-1" strike="noStrike">
              <a:solidFill>
                <a:srgbClr val="004f9f"/>
              </a:solidFill>
              <a:latin typeface="AMS"/>
            </a:endParaRPr>
          </a:p>
          <a:p>
            <a:pPr marL="332640" indent="-332640">
              <a:spcBef>
                <a:spcPts val="499"/>
              </a:spcBef>
              <a:spcAft>
                <a:spcPts val="1250"/>
              </a:spcAft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71585"/>
                </a:solidFill>
                <a:latin typeface="AMS"/>
              </a:rPr>
              <a:t>Nicht entschuldigte Abwesenheiten führen zum Verlust Ihres Leistungsbezuges!</a:t>
            </a:r>
            <a:endParaRPr b="0" lang="en-US" sz="20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56" name="Foliennummernplatzhalter 3"/>
          <p:cNvSpPr/>
          <p:nvPr/>
        </p:nvSpPr>
        <p:spPr>
          <a:xfrm>
            <a:off x="68436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98CB-8498-4F34-8136-C443162F86E9}" type="slidenum">
              <a:rPr b="0" lang="de-AT" sz="1200" spc="-1" strike="noStrike">
                <a:solidFill>
                  <a:srgbClr val="7f7f7f"/>
                </a:solidFill>
                <a:latin typeface="AMS"/>
                <a:ea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4002d"/>
                </a:solidFill>
                <a:latin typeface="AMS"/>
              </a:rPr>
              <a:t>Bewerbung während des Kursbesuchs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271585"/>
                </a:solidFill>
                <a:latin typeface="AMS"/>
              </a:rPr>
              <a:t>Eigene Stellensuche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71585"/>
                </a:solidFill>
                <a:latin typeface="AMS"/>
              </a:rPr>
              <a:t>www.allejobs.at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71585"/>
                </a:solidFill>
                <a:latin typeface="AMS"/>
              </a:rPr>
              <a:t>eJobroom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71585"/>
                </a:solidFill>
                <a:latin typeface="AMS"/>
              </a:rPr>
              <a:t>www.ams.at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271585"/>
                </a:solidFill>
                <a:latin typeface="AMS"/>
              </a:rPr>
              <a:t>Ihr_e Trainer_in unterstützt Sie gerne bei Jobrecherchen, Lebenslauf und Bewerbung.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59" name="Foliennummernplatzhalter 3"/>
          <p:cNvSpPr/>
          <p:nvPr/>
        </p:nvSpPr>
        <p:spPr>
          <a:xfrm>
            <a:off x="68436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1FED-ED95-40E3-B133-F83F6DF652D7}" type="slidenum">
              <a:rPr b="0" lang="de-AT" sz="1200" spc="-1" strike="noStrike">
                <a:solidFill>
                  <a:srgbClr val="7f7f7f"/>
                </a:solidFill>
                <a:latin typeface="AMS"/>
                <a:ea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4002d"/>
                </a:solidFill>
                <a:latin typeface="AMS"/>
              </a:rPr>
              <a:t>Vermittlung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271585"/>
                </a:solidFill>
                <a:latin typeface="AMS"/>
              </a:rPr>
              <a:t>Sollten Sie </a:t>
            </a:r>
            <a:r>
              <a:rPr b="1" lang="de-AT" sz="2200" spc="-1" strike="noStrike">
                <a:solidFill>
                  <a:srgbClr val="271585"/>
                </a:solidFill>
                <a:latin typeface="AMS"/>
              </a:rPr>
              <a:t>Vermittlungsvorschläge</a:t>
            </a:r>
            <a:r>
              <a:rPr b="0" lang="de-AT" sz="2200" spc="-1" strike="noStrike">
                <a:solidFill>
                  <a:srgbClr val="271585"/>
                </a:solidFill>
                <a:latin typeface="AMS"/>
              </a:rPr>
              <a:t> </a:t>
            </a:r>
            <a:r>
              <a:rPr b="1" lang="de-AT" sz="2200" spc="-1" strike="noStrike">
                <a:solidFill>
                  <a:srgbClr val="271585"/>
                </a:solidFill>
                <a:latin typeface="AMS"/>
              </a:rPr>
              <a:t>während des Kursbesuches vom AMS </a:t>
            </a:r>
            <a:r>
              <a:rPr b="0" lang="de-AT" sz="2200" spc="-1" strike="noStrike">
                <a:solidFill>
                  <a:srgbClr val="271585"/>
                </a:solidFill>
                <a:latin typeface="AMS"/>
              </a:rPr>
              <a:t>erhalten, wenden Sie sich gerne an die Trainer_innen.  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 marL="343080" indent="-343080">
              <a:spcBef>
                <a:spcPts val="550"/>
              </a:spcBef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 marL="343080" indent="-343080">
              <a:spcBef>
                <a:spcPts val="550"/>
              </a:spcBef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71585"/>
                </a:solidFill>
                <a:latin typeface="AMS"/>
              </a:rPr>
              <a:t>Bitte unbedingt die </a:t>
            </a:r>
            <a:r>
              <a:rPr b="0" lang="de-AT" sz="2200" spc="-1" strike="noStrike" u="sng">
                <a:solidFill>
                  <a:srgbClr val="271585"/>
                </a:solidFill>
                <a:uFillTx/>
                <a:latin typeface="AMS"/>
              </a:rPr>
              <a:t>Bewerbungsfrist</a:t>
            </a:r>
            <a:r>
              <a:rPr b="0" lang="en-GB" sz="2200" spc="-1" strike="noStrike">
                <a:solidFill>
                  <a:srgbClr val="271585"/>
                </a:solidFill>
                <a:latin typeface="AMS"/>
              </a:rPr>
              <a:t> </a:t>
            </a:r>
            <a:r>
              <a:rPr b="0" lang="de-AT" sz="2200" spc="-1" strike="noStrike">
                <a:solidFill>
                  <a:srgbClr val="271585"/>
                </a:solidFill>
                <a:latin typeface="AMS"/>
              </a:rPr>
              <a:t>beachten</a:t>
            </a:r>
            <a:r>
              <a:rPr b="0" lang="en-GB" sz="2200" spc="-1" strike="noStrike">
                <a:solidFill>
                  <a:srgbClr val="271585"/>
                </a:solidFill>
                <a:latin typeface="AMS"/>
              </a:rPr>
              <a:t>!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 marL="343080" indent="-343080">
              <a:spcBef>
                <a:spcPts val="550"/>
              </a:spcBef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271585"/>
                </a:solidFill>
                <a:latin typeface="AMS"/>
              </a:rPr>
              <a:t>Wir unterstützen Sie gerne bei allen Fragen rund um Ihre Bewerbung!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62" name="Foliennummernplatzhalter 3"/>
          <p:cNvSpPr/>
          <p:nvPr/>
        </p:nvSpPr>
        <p:spPr>
          <a:xfrm>
            <a:off x="755640" y="6453360"/>
            <a:ext cx="184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7504-F29B-4165-8097-4566548841F8}" type="slidenum">
              <a:rPr b="0" lang="de-AT" sz="1200" spc="-1" strike="noStrike">
                <a:solidFill>
                  <a:srgbClr val="7f7f7f"/>
                </a:solidFill>
                <a:latin typeface="AMS"/>
                <a:ea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9T06:52:04Z</dcterms:created>
  <dc:creator>Clara Kobler</dc:creator>
  <dc:description/>
  <dc:language>en-US</dc:language>
  <cp:lastModifiedBy>Arbnor Selimi</cp:lastModifiedBy>
  <cp:lastPrinted>2008-11-24T09:28:01Z</cp:lastPrinted>
  <dcterms:modified xsi:type="dcterms:W3CDTF">2023-02-10T07:32:44Z</dcterms:modified>
  <cp:revision>156</cp:revision>
  <dc:subject/>
  <dc:title>PowerPoint-Präsentation</dc:title>
</cp:coreProperties>
</file>