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move the slide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0DD-8227-4B7D-B365-4D8C5B0CE8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A11-E95C-4C9F-BAF3-F5B9458710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D493-ED56-4ACF-8925-02D605DCB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EB21-C545-4625-94F7-517F59D22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9FED-F79D-4467-939C-72F1E30B6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3EAD-81F4-48AE-9D7F-F41BDD465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EC5E-1FBC-440B-AA6F-42793BA11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5A43-B35A-4931-ACA6-642D105B33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5B80-40AA-429D-89EF-473B5FD04B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0F3-CB86-46BA-867F-381E517B3F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2DFD-E2C9-40C8-B0EF-379827B1F3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FCA4-9411-492D-A279-45E948830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8612-F4C2-43B6-A6C2-F2B60103F2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A67E-836F-44F0-94EE-9E93A8260D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F52C-149F-4750-B8F5-A485B5D6C9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731A-4143-4F03-84F3-7B3C5B04C7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3630-4D6B-482F-A68D-20488A291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2FF5-E34A-4055-9DA0-C8C97B7872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C029-DD17-4060-9A79-B8FB7A3D82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088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7000" y="227628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3476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088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7000" y="4194000"/>
            <a:ext cx="24912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0279-B1AB-4248-8CF6-2DA9DF66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BB3A-A099-4D4E-A7FE-E49A5F68D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0ECF-1F68-4DC4-B677-1A0F8A9E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4120" y="7729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FAA9-9233-432A-A4D0-1075DDEE5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2A5D-F053-4C7E-A3AE-7B413E78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9440" y="419400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6550-148E-4158-96C5-FB224A8ED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9440" y="2276280"/>
            <a:ext cx="37756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4760" y="4194000"/>
            <a:ext cx="77374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A78A-0464-4617-A2C1-96FF119DA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1CE8-C4D8-42B6-A841-98C7A0EE6DC8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5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5280" y="6453360"/>
            <a:ext cx="184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4F5E-03E2-468D-A5FD-613280613122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1" descr=""/>
          <p:cNvPicPr/>
          <p:nvPr/>
        </p:nvPicPr>
        <p:blipFill>
          <a:blip r:embed="rId3"/>
          <a:stretch/>
        </p:blipFill>
        <p:spPr>
          <a:xfrm>
            <a:off x="0" y="4869000"/>
            <a:ext cx="9144000" cy="200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46" name="Grafik 3" descr=""/>
          <p:cNvPicPr/>
          <p:nvPr/>
        </p:nvPicPr>
        <p:blipFill>
          <a:blip r:embed="rId4"/>
          <a:stretch/>
        </p:blipFill>
        <p:spPr>
          <a:xfrm>
            <a:off x="7042320" y="5807160"/>
            <a:ext cx="1777680" cy="93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956720" y="6496200"/>
            <a:ext cx="874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6D7-7997-466E-A684-BA5242968CBA}" type="slidenum">
              <a:rPr b="0" lang="de-DE" sz="1400" spc="-1" strike="noStrike">
                <a:solidFill>
                  <a:srgbClr val="ffffff"/>
                </a:solidFill>
                <a:latin typeface="AMS"/>
              </a:rPr>
              <a:t>&lt;number&gt;</a:t>
            </a:fld>
            <a:endParaRPr b="1" lang="en-US" sz="1400" spc="-1" strike="noStrike">
              <a:solidFill>
                <a:srgbClr val="de0000"/>
              </a:solidFill>
              <a:latin typeface="AMS"/>
            </a:endParaRPr>
          </a:p>
        </p:txBody>
      </p:sp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7329600" y="6068880"/>
            <a:ext cx="1260360" cy="662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2d"/>
                </a:solidFill>
                <a:latin typeface="AMS"/>
              </a:rPr>
              <a:t>Click to edit the title text form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4f9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Click to edit the outline text format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1" marL="653760" indent="-2512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con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2" marL="1005840" indent="-200880">
              <a:spcBef>
                <a:spcPts val="799"/>
              </a:spcBef>
              <a:buClr>
                <a:srgbClr val="004f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Third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3" marL="1407960" indent="-200880">
              <a:spcBef>
                <a:spcPts val="799"/>
              </a:spcBef>
              <a:buClr>
                <a:srgbClr val="004f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our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4" marL="1810440" indent="-200880">
              <a:spcBef>
                <a:spcPts val="799"/>
              </a:spcBef>
              <a:buClr>
                <a:srgbClr val="004f9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Fif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ix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f9f"/>
                </a:solidFill>
                <a:latin typeface="AMS"/>
              </a:rPr>
              <a:t>Seventh Outline Level</a:t>
            </a:r>
            <a:endParaRPr b="0" lang="en-US" sz="3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84360" y="6447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1005-E5F2-4950-A67B-9527D4CDA171}" type="slidenum">
              <a:rPr b="0" lang="de-A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058840"/>
            <a:ext cx="8459640" cy="1322640"/>
          </a:xfrm>
          <a:prstGeom prst="rect">
            <a:avLst/>
          </a:prstGeom>
          <a:noFill/>
          <a:ln w="0">
            <a:noFill/>
          </a:ln>
        </p:spPr>
        <p:txBody>
          <a:bodyPr lIns="72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Aus- und Weiterbildung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MS"/>
              </a:rPr>
              <a:t>Kurseröffn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3700440"/>
            <a:ext cx="3205080" cy="449280"/>
          </a:xfrm>
          <a:prstGeom prst="rect">
            <a:avLst/>
          </a:prstGeom>
          <a:solidFill>
            <a:srgbClr val="e4002d">
              <a:alpha val="85000"/>
            </a:srgbClr>
          </a:solidFill>
          <a:ln w="0">
            <a:noFill/>
          </a:ln>
        </p:spPr>
        <p:txBody>
          <a:bodyPr lIns="720000" rIns="180000" tIns="108000" bIns="1080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ffff"/>
                </a:solidFill>
                <a:latin typeface="AMS"/>
              </a:rPr>
              <a:t>AMS NÖ - Förderung</a:t>
            </a:r>
            <a:endParaRPr b="0" lang="en-US" sz="15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5148360" y="30996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MS"/>
                <a:ea typeface="Arial"/>
              </a:rPr>
              <a:t>Arbeitsmarktservice NÖ</a:t>
            </a:r>
            <a:endParaRPr b="1" lang="en-US" sz="16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38" name="Textfeld 5"/>
          <p:cNvSpPr/>
          <p:nvPr/>
        </p:nvSpPr>
        <p:spPr>
          <a:xfrm>
            <a:off x="9360" y="4149720"/>
            <a:ext cx="34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MS"/>
                <a:ea typeface="Arial"/>
              </a:rPr>
              <a:t>&gt;&gt;Jänner 2023&lt;&lt;</a:t>
            </a:r>
            <a:endParaRPr b="1" lang="en-US" sz="13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Kursabschlus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2CA8-3CEB-402D-BDD8-C9938BE10A55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34760" y="2276280"/>
            <a:ext cx="773748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Um Ihre Geldleistung auch nach dem Abschluss Ihres Kurses zu sichern, sprechen Sie bitte zum vereinbarten Termin vor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ollten Sie keinen Termin haben, bitte umgehend –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 spätestens am Tag nach Kursende - bei Ihrer AMS-Geschäftsstelle vorsprech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	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Teilnahme/Zertifika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Sie erhalten nach Abschluss </a:t>
            </a:r>
            <a:br>
              <a:rPr sz="2800"/>
            </a:b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Ihrer Aus- und Weiterbildung eine schriftliche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Teilnahmebestätigung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 oder ein </a:t>
            </a:r>
            <a:r>
              <a:rPr b="1" lang="de-AT" sz="2800" spc="-1" strike="noStrike">
                <a:solidFill>
                  <a:srgbClr val="271585"/>
                </a:solidFill>
                <a:latin typeface="AMS"/>
              </a:rPr>
              <a:t>Abschlusszertifikat</a:t>
            </a:r>
            <a:r>
              <a:rPr b="0" lang="de-AT" sz="2800" spc="-1" strike="noStrike">
                <a:solidFill>
                  <a:srgbClr val="271585"/>
                </a:solidFill>
                <a:latin typeface="AMS"/>
              </a:rPr>
              <a:t>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CE1-D3A2-4419-9638-568505BB9BCD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Teilnahmezufriedenheit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4760" y="2060280"/>
            <a:ext cx="773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Sie erhalten umgehend nach Kursende den </a:t>
            </a: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Link zur Teilnahmezufriedenheit</a:t>
            </a: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 (per eAMS Konto, E-Mail oder SMS)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Es ist sehr wichtig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dass Sie diese anonyme Umfrage beantworten! Nur so können wir die Qualität unserer Angebote verbessern. 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71585"/>
                </a:solidFill>
                <a:latin typeface="AMS"/>
              </a:rPr>
              <a:t>Ihr Feedback kann beeinflussen</a:t>
            </a:r>
            <a:r>
              <a:rPr b="0" lang="de-DE" sz="2200" spc="-1" strike="noStrike">
                <a:solidFill>
                  <a:srgbClr val="271585"/>
                </a:solidFill>
                <a:latin typeface="AMS"/>
              </a:rPr>
              <a:t>, ob der Kurs in dieser Form weiterhin angeboten wird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9CA-5DBF-478A-89A3-61863B7C0495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lles Gute!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213336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71585"/>
                </a:solidFill>
                <a:latin typeface="AMS"/>
              </a:rPr>
              <a:t>Wir wünschen Ihnen für Ihren Kursbesuch und für Ihre berufliche Zukunft viel Erfolg!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71585"/>
                </a:solidFill>
                <a:latin typeface="AMS"/>
              </a:rPr>
              <a:t>Ihr </a:t>
            </a: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Arbeitsmarktservice Niederösterreich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329-372F-4A96-80EE-9A209834EF2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MS NÖ - 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0" name="Foliennummernplatzhalter 1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52C9-B031-4354-B62A-2AC0B3E5009A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4760" y="2276280"/>
            <a:ext cx="7737480" cy="32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us- und Weiterbildung verbessert Ihre Chancen am Arbeitsmarkt!</a:t>
            </a:r>
            <a:br>
              <a:rPr sz="2400"/>
            </a:b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71585"/>
                </a:solidFill>
                <a:latin typeface="AMS"/>
              </a:rPr>
              <a:t>Herzlich Willkommen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zum Kurs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Aus- bzw. Weiterbildung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 mit &gt;&gt;</a:t>
            </a:r>
            <a:r>
              <a:rPr b="0" lang="en-GB" sz="2400" spc="-1" strike="noStrike">
                <a:solidFill>
                  <a:srgbClr val="ff0000"/>
                </a:solidFill>
                <a:latin typeface="AMS"/>
              </a:rPr>
              <a:t>Bildungsträger</a:t>
            </a:r>
            <a:r>
              <a:rPr b="0" lang="en-GB" sz="24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4002d"/>
                </a:solidFill>
                <a:latin typeface="AMS"/>
              </a:rPr>
              <a:t>Ansprechpartner_inn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271585"/>
                </a:solidFill>
                <a:latin typeface="AMS"/>
              </a:rPr>
              <a:t>für Hilfestellungen während der Teilnahme</a:t>
            </a:r>
            <a:br>
              <a:rPr sz="2200"/>
            </a:b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Trainerin/Ihr Trainer vor Or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AMS-Kursbetreuer_in (siehe Plakate “Ihre Meinung ist uns wichtig!”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e Beraterin/Ihr Berater via eAMS Konto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FDD-B4D0-4847-9684-143BCE774E7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120" y="1844280"/>
            <a:ext cx="77374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Ausbildungs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Die Kosten für Ihre Aus- und Weiterbildung werden vom AMS Niederösterreich übernommen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Individualförderung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z.B.: Existenzsicherung, Kinderbetreuung, Reisekosten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Bitte nehmen Sie umgehend mit Ihrem_r AMS-Berater_in Kontakt auf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1B8-9A28-40AB-91EA-115108B15AC1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4480" y="7729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Förderantra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2EA5-4A35-4D09-B54C-7398A0D3E8C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205000"/>
            <a:ext cx="773748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Falls Sie für Ihren Kursbesuch noch keinen Förderantrag (Begehren) gestellt haben, so tun Sie dies bitte umgehend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ts val="3798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Sie können diesen am einfachsten über Ihr eAMS - Konto stellen. Ihr_e Trainer_in unterstützt Sie gerne!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Versicherung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71585"/>
                </a:solidFill>
                <a:latin typeface="AMS"/>
              </a:rPr>
              <a:t>Versicherung während Ihres Kursbesuchs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Ihre Sozialversicherung enthält: 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Unfall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71585"/>
                </a:solidFill>
                <a:latin typeface="AMS"/>
              </a:rPr>
              <a:t>Krankenversicherung</a:t>
            </a:r>
            <a:endParaRPr b="0" lang="en-US" sz="2400" spc="-1" strike="noStrike">
              <a:solidFill>
                <a:srgbClr val="004f9f"/>
              </a:solidFill>
              <a:latin typeface="AMS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71585"/>
                </a:solidFill>
                <a:latin typeface="AMS"/>
              </a:rPr>
              <a:t>Nur bei Anspruch auf Leistungen nach AlVG oder AMSG.</a:t>
            </a:r>
            <a:endParaRPr b="0" lang="en-US" sz="16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57B-E5A4-40E7-AD92-2FE261531899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Abwesenheiten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2060640"/>
            <a:ext cx="7737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Jede Abwesenheit muss bis spätestens 09:00 Uhr</a:t>
            </a:r>
            <a:br>
              <a:rPr sz="2000"/>
            </a:b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bei Ihrem Kursinstitut gemeldet werden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 &gt;&gt;</a:t>
            </a:r>
            <a:r>
              <a:rPr b="0" lang="en-GB" sz="2000" spc="-1" strike="noStrike">
                <a:solidFill>
                  <a:srgbClr val="ff0000"/>
                </a:solidFill>
                <a:latin typeface="AMS"/>
              </a:rPr>
              <a:t>Telefonnummer</a:t>
            </a:r>
            <a:r>
              <a:rPr b="0" lang="en-GB" sz="2000" spc="-1" strike="noStrike">
                <a:solidFill>
                  <a:srgbClr val="271585"/>
                </a:solidFill>
                <a:latin typeface="AMS"/>
              </a:rPr>
              <a:t>&lt;&lt;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Für jede Abwesenheit ist eine schriftliche Bestätigung erforderlich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Arztbestätigungen ab dem ersten Tag Krankenstand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Rückmeldung nach einem Krankenstand umgehend und nur im Kurs.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  <a:p>
            <a:pPr marL="332640" indent="-332640">
              <a:spcBef>
                <a:spcPts val="499"/>
              </a:spcBef>
              <a:spcAft>
                <a:spcPts val="1250"/>
              </a:spcAft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71585"/>
                </a:solidFill>
                <a:latin typeface="AMS"/>
              </a:rPr>
              <a:t>Nicht entschuldigte Abwesenheiten führen zum Verlust Ihres Leistungsbezuges!</a:t>
            </a:r>
            <a:endParaRPr b="0" lang="en-US" sz="20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05D-0A91-49F8-B445-DBFB4807AAD8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Bewerbung während des Kursbesuch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71585"/>
                </a:solidFill>
                <a:latin typeface="AMS"/>
              </a:rPr>
              <a:t>Eigene Stellensuche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llejob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eJobroom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buClr>
                <a:srgbClr val="2715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271585"/>
                </a:solidFill>
                <a:latin typeface="AMS"/>
              </a:rPr>
              <a:t>Ihr_e Trainer_in unterstützt Sie gerne bei Jobrecherchen, Lebenslauf und Bewerbung.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6E6-0581-4687-BD76-2A3924AFCD1B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4120" y="772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e4002d"/>
                </a:solidFill>
                <a:latin typeface="AMS"/>
              </a:rPr>
              <a:t>Weiterbildung nach diesem Kurs</a:t>
            </a:r>
            <a:endParaRPr b="1" lang="en-US" sz="4000" spc="-1" strike="noStrike">
              <a:solidFill>
                <a:srgbClr val="e4002d"/>
              </a:solidFill>
              <a:latin typeface="A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4760" y="2276280"/>
            <a:ext cx="7737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Der Besuch eines Folge-Kurses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ist nur in Absprache mit Ihren 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71585"/>
                </a:solidFill>
                <a:latin typeface="AMS"/>
              </a:rPr>
              <a:t>AMS-Berater_innen möglich.</a:t>
            </a:r>
            <a:endParaRPr b="0" lang="en-US" sz="28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71585"/>
                </a:solidFill>
                <a:latin typeface="AMS"/>
              </a:rPr>
              <a:t>www.ams.at (AMS Weiterbildungsdatenbank)</a:t>
            </a:r>
            <a:endParaRPr b="0" lang="en-US" sz="2200" spc="-1" strike="noStrike">
              <a:solidFill>
                <a:srgbClr val="004f9f"/>
              </a:solidFill>
              <a:latin typeface="A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f9f"/>
              </a:solidFill>
              <a:latin typeface="AMS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68436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7D9-3D21-413B-B5C9-B3F7972D45C7}" type="slidenum">
              <a:rPr b="0" lang="de-AT" sz="1200" spc="-1" strike="noStrike">
                <a:solidFill>
                  <a:srgbClr val="7f7f7f"/>
                </a:solidFill>
                <a:latin typeface="AMS"/>
                <a:ea typeface="Arial"/>
              </a:rPr>
              <a:t>&lt;number&gt;</a:t>
            </a:fld>
            <a:endParaRPr b="1" lang="en-US" sz="1200" spc="-1" strike="noStrike">
              <a:solidFill>
                <a:srgbClr val="de0000"/>
              </a:solidFill>
              <a:latin typeface="A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6:52:04Z</dcterms:created>
  <dc:creator>Clara Kobler</dc:creator>
  <dc:description/>
  <dc:language>en-US</dc:language>
  <cp:lastModifiedBy>Arbnor Selimi</cp:lastModifiedBy>
  <cp:lastPrinted>2008-11-24T09:28:01Z</cp:lastPrinted>
  <dcterms:modified xsi:type="dcterms:W3CDTF">2023-02-10T07:32:33Z</dcterms:modified>
  <cp:revision>154</cp:revision>
  <dc:subject/>
  <dc:title>PowerPoint-Präsentation</dc:title>
</cp:coreProperties>
</file>