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3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move the slide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4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5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1213-70CC-48A0-9522-CBEE850441D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liennummernplatzhalt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4D77-F245-461C-BE02-5424221C393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DFD4-9CE8-4A29-8621-10BB061E2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C040-8426-4C85-8E7C-D8802AA21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1897-1110-40EB-9665-352F5199D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088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700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476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088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700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B78C-A547-4FE0-BA34-431EE8968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44120" y="7729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ED6C-FA86-4484-82E8-E49625FA4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5088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700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3476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5088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700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F150A-88B2-4CAD-8AFD-8FD24DDA39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09503-C47F-4828-8FB3-C5AA7B4425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584E-AE72-42A5-A558-33C6CC24FB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425C-ED27-4782-9FCE-072C2FF5A7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EEBD9-CD9D-41F1-92D0-E7A0FA2275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1E32-A47A-4594-9F93-1570B1E64D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4120" y="7729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FE7F0-4E65-412E-900D-52F4CE5FC1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6814-C244-4178-916D-C2C7511C29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1721-04BD-45C6-8481-5FD60A78FB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46733-9DCB-4A03-AA68-E1E3F328D7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BA503-3EB0-493C-B8A7-732868476E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7C584-10F1-4FBC-BBBE-552D0139E8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5088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700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3476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5088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700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AC23-5A7A-4273-A6C1-53F63BA65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8F30-7794-41B2-A7DB-8080F5EBC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142C-BCDB-4E15-AC6A-39FC1504F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4120" y="7729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B153-127A-482A-908E-29422F1DF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E162-A4B9-45C0-9372-E51DA2E8E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D079-B518-4CFF-A627-949577B7C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E216-C75A-47CC-818B-407E32286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afik 2" descr=""/>
          <p:cNvPicPr/>
          <p:nvPr/>
        </p:nvPicPr>
        <p:blipFill>
          <a:blip r:embed="rId2"/>
          <a:stretch/>
        </p:blipFill>
        <p:spPr>
          <a:xfrm>
            <a:off x="-324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edit the title text form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4f9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Click to edit the outline text format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1" marL="653760" indent="-2512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con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2" marL="1005840" indent="-200880">
              <a:spcBef>
                <a:spcPts val="799"/>
              </a:spcBef>
              <a:buClr>
                <a:srgbClr val="004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Thir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3" marL="1407960" indent="-2008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our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4" marL="1810440" indent="-200880">
              <a:spcBef>
                <a:spcPts val="799"/>
              </a:spcBef>
              <a:buClr>
                <a:srgbClr val="004f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if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ix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ven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4" name="Rectangle 18"/>
          <p:cNvSpPr/>
          <p:nvPr/>
        </p:nvSpPr>
        <p:spPr>
          <a:xfrm>
            <a:off x="7956720" y="6496200"/>
            <a:ext cx="8744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D1A2-3C40-4AD3-A9E5-334A9A8905EB}" type="slidenum">
              <a:rPr b="0" lang="de-DE" sz="1400" spc="-1" strike="noStrike">
                <a:solidFill>
                  <a:srgbClr val="ffffff"/>
                </a:solidFill>
                <a:latin typeface="AMS"/>
              </a:rPr>
              <a:t>&lt;number&gt;</a:t>
            </a:fld>
            <a:endParaRPr b="1" lang="en-US" sz="1400" spc="-1" strike="noStrike">
              <a:solidFill>
                <a:srgbClr val="de0000"/>
              </a:solidFill>
              <a:latin typeface="AMS"/>
            </a:endParaRPr>
          </a:p>
        </p:txBody>
      </p:sp>
      <p:pic>
        <p:nvPicPr>
          <p:cNvPr id="5" name="Grafik 3" descr=""/>
          <p:cNvPicPr/>
          <p:nvPr/>
        </p:nvPicPr>
        <p:blipFill>
          <a:blip r:embed="rId3"/>
          <a:stretch/>
        </p:blipFill>
        <p:spPr>
          <a:xfrm>
            <a:off x="7329600" y="6068880"/>
            <a:ext cx="1260360" cy="662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55280" y="6453360"/>
            <a:ext cx="184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A2A2-B6CE-47D9-9FB7-DDC7654E2A76}" type="slidenum">
              <a:rPr b="0" lang="de-A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9" descr=""/>
          <p:cNvPicPr/>
          <p:nvPr/>
        </p:nvPicPr>
        <p:blipFill>
          <a:blip r:embed="rId2"/>
          <a:stretch/>
        </p:blipFill>
        <p:spPr>
          <a:xfrm>
            <a:off x="7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Grafik 11" descr=""/>
          <p:cNvPicPr/>
          <p:nvPr/>
        </p:nvPicPr>
        <p:blipFill>
          <a:blip r:embed="rId3"/>
          <a:stretch/>
        </p:blipFill>
        <p:spPr>
          <a:xfrm>
            <a:off x="0" y="4869000"/>
            <a:ext cx="9144000" cy="2006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8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pic>
        <p:nvPicPr>
          <p:cNvPr id="46" name="Grafik 3" descr=""/>
          <p:cNvPicPr/>
          <p:nvPr/>
        </p:nvPicPr>
        <p:blipFill>
          <a:blip r:embed="rId4"/>
          <a:stretch/>
        </p:blipFill>
        <p:spPr>
          <a:xfrm>
            <a:off x="7042320" y="5807160"/>
            <a:ext cx="1777680" cy="934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edit the title text form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4f9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Click to edit the outline text format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1" marL="653760" indent="-2512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con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2" marL="1005840" indent="-200880">
              <a:spcBef>
                <a:spcPts val="799"/>
              </a:spcBef>
              <a:buClr>
                <a:srgbClr val="004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Thir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3" marL="1407960" indent="-2008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our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4" marL="1810440" indent="-200880">
              <a:spcBef>
                <a:spcPts val="799"/>
              </a:spcBef>
              <a:buClr>
                <a:srgbClr val="004f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if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ix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ven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Grafik 2" descr=""/>
          <p:cNvPicPr/>
          <p:nvPr/>
        </p:nvPicPr>
        <p:blipFill>
          <a:blip r:embed="rId2"/>
          <a:stretch/>
        </p:blipFill>
        <p:spPr>
          <a:xfrm>
            <a:off x="-324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7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7956720" y="6496200"/>
            <a:ext cx="8744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73CD-C026-490E-9614-72B3B46940D5}" type="slidenum">
              <a:rPr b="0" lang="de-DE" sz="1400" spc="-1" strike="noStrike">
                <a:solidFill>
                  <a:srgbClr val="ffffff"/>
                </a:solidFill>
                <a:latin typeface="AMS"/>
              </a:rPr>
              <a:t>&lt;number&gt;</a:t>
            </a:fld>
            <a:endParaRPr b="1" lang="en-US" sz="1400" spc="-1" strike="noStrike">
              <a:solidFill>
                <a:srgbClr val="de0000"/>
              </a:solidFill>
              <a:latin typeface="AMS"/>
            </a:endParaRPr>
          </a:p>
        </p:txBody>
      </p:sp>
      <p:pic>
        <p:nvPicPr>
          <p:cNvPr id="88" name="Grafik 3" descr=""/>
          <p:cNvPicPr/>
          <p:nvPr/>
        </p:nvPicPr>
        <p:blipFill>
          <a:blip r:embed="rId3"/>
          <a:stretch/>
        </p:blipFill>
        <p:spPr>
          <a:xfrm>
            <a:off x="7329600" y="6068880"/>
            <a:ext cx="1260360" cy="662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edit the title text form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4f9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Click to edit the outline text format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1" marL="653760" indent="-2512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con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2" marL="1005840" indent="-200880">
              <a:spcBef>
                <a:spcPts val="799"/>
              </a:spcBef>
              <a:buClr>
                <a:srgbClr val="004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Thir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3" marL="1407960" indent="-2008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our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4" marL="1810440" indent="-200880">
              <a:spcBef>
                <a:spcPts val="799"/>
              </a:spcBef>
              <a:buClr>
                <a:srgbClr val="004f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if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ix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ven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68436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E941-7E80-4B13-AF51-6ACEA5F5C5CA}" type="slidenum">
              <a:rPr b="0" lang="de-A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058840"/>
            <a:ext cx="8459640" cy="1322640"/>
          </a:xfrm>
          <a:prstGeom prst="rect">
            <a:avLst/>
          </a:prstGeom>
          <a:noFill/>
          <a:ln w="0">
            <a:noFill/>
          </a:ln>
        </p:spPr>
        <p:txBody>
          <a:bodyPr lIns="720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MS"/>
              </a:rPr>
              <a:t>Aus- und Weiterbildung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AMS"/>
              </a:rPr>
              <a:t>Kurseröffn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-360" y="3700440"/>
            <a:ext cx="3205080" cy="449280"/>
          </a:xfrm>
          <a:prstGeom prst="rect">
            <a:avLst/>
          </a:prstGeom>
          <a:solidFill>
            <a:srgbClr val="e4002d">
              <a:alpha val="85000"/>
            </a:srgbClr>
          </a:solidFill>
          <a:ln w="0">
            <a:noFill/>
          </a:ln>
        </p:spPr>
        <p:txBody>
          <a:bodyPr lIns="720000" rIns="180000" tIns="108000" bIns="10800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ffff"/>
                </a:solidFill>
                <a:latin typeface="AMS"/>
              </a:rPr>
              <a:t>AMS NÖ - Förderung</a:t>
            </a:r>
            <a:endParaRPr b="0" lang="en-US" sz="15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37" name="Textfeld 4"/>
          <p:cNvSpPr/>
          <p:nvPr/>
        </p:nvSpPr>
        <p:spPr>
          <a:xfrm>
            <a:off x="5148360" y="309960"/>
            <a:ext cx="34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MS"/>
                <a:ea typeface="Arial"/>
              </a:rPr>
              <a:t>Arbeitsmarktservice NÖ</a:t>
            </a:r>
            <a:endParaRPr b="1" lang="en-US" sz="16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38" name="Textfeld 5"/>
          <p:cNvSpPr/>
          <p:nvPr/>
        </p:nvSpPr>
        <p:spPr>
          <a:xfrm>
            <a:off x="9360" y="4149720"/>
            <a:ext cx="341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MS"/>
                <a:ea typeface="Arial"/>
              </a:rPr>
              <a:t>&gt;&gt;Jänner 2023&lt;&lt;</a:t>
            </a:r>
            <a:endParaRPr b="1" lang="en-US" sz="13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Kursabschluss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64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F1EC-85AA-40CA-8D8B-464F5FC1ECB3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34760" y="2276280"/>
            <a:ext cx="773748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Um Ihre Geldleistung auch nach dem Abschluss Ihres Kurses zu sichern, sprechen Sie bitte zum vereinbarten Termin vor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Sollten Sie keinen Termin haben, bitte umgehend –</a:t>
            </a: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 spätestens am Tag nach Kursende - bei Ihrer AMS-Geschäftsstelle vorsprechen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	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e4002d"/>
                </a:solidFill>
                <a:latin typeface="AMS"/>
              </a:rPr>
              <a:t>Teilnahme/Zertifik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Sie erhalten nach Abschluss </a:t>
            </a:r>
            <a:br>
              <a:rPr sz="2800"/>
            </a:b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Ihrer Aus- und Weiterbildung eine schriftliche </a:t>
            </a:r>
            <a:r>
              <a:rPr b="1" lang="de-AT" sz="2800" spc="-1" strike="noStrike">
                <a:solidFill>
                  <a:srgbClr val="271585"/>
                </a:solidFill>
                <a:latin typeface="AMS"/>
              </a:rPr>
              <a:t>Teilnahmebestätigung</a:t>
            </a: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 oder ein </a:t>
            </a:r>
            <a:r>
              <a:rPr b="1" lang="de-AT" sz="2800" spc="-1" strike="noStrike">
                <a:solidFill>
                  <a:srgbClr val="271585"/>
                </a:solidFill>
                <a:latin typeface="AMS"/>
              </a:rPr>
              <a:t>Abschlusszertifikat</a:t>
            </a: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!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68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8C52-BE64-459C-A0BD-7726C19A6C1A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Teilnahmezufriedenhei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34760" y="2060280"/>
            <a:ext cx="7737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Sie erhalten umgehend nach Kursende den </a:t>
            </a:r>
            <a:r>
              <a:rPr b="1" lang="de-AT" sz="2200" spc="-1" strike="noStrike">
                <a:solidFill>
                  <a:srgbClr val="271585"/>
                </a:solidFill>
                <a:latin typeface="AMS"/>
              </a:rPr>
              <a:t>Link zur Teilnahmezufriedenheit</a:t>
            </a: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 (per eAMS Konto, E-Mail oder SMS)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271585"/>
                </a:solidFill>
                <a:latin typeface="AMS"/>
              </a:rPr>
              <a:t>Es ist sehr wichtig</a:t>
            </a: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, dass Sie diese anonyme Umfrage beantworten! Nur so können wir die Qualität unserer Angebote verbessern. 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271585"/>
                </a:solidFill>
                <a:latin typeface="AMS"/>
              </a:rPr>
              <a:t>Ihr Feedback kann beeinflussen</a:t>
            </a: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, ob der Kurs in dieser Form weiterhin angeboten wird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71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CA52-08B3-4DCE-AE69-1B56EC164A0F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Alles Gute!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213336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1585"/>
                </a:solidFill>
                <a:latin typeface="AMS"/>
              </a:rPr>
              <a:t>Wir wünschen Ihnen für Ihren Kursbesuch und für Ihre berufliche Zukunft viel Erfolg!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71585"/>
                </a:solidFill>
                <a:latin typeface="AMS"/>
              </a:rPr>
              <a:t>Ihr </a:t>
            </a:r>
            <a:r>
              <a:rPr b="1" lang="de-DE" sz="2400" spc="-1" strike="noStrike">
                <a:solidFill>
                  <a:srgbClr val="271585"/>
                </a:solidFill>
                <a:latin typeface="AMS"/>
              </a:rPr>
              <a:t>Arbeitsmarktservice Niederösterreich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74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5253-D85C-415B-B4F5-24A4F7844B39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AMS NÖ - Förder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0" name="Foliennummernplatzhalter 1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297A-94DD-49ED-958D-106EB2CDA226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2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Aus- und Weiterbildung verbessert Ihre Chancen am Arbeitsmarkt!</a:t>
            </a:r>
            <a:br>
              <a:rPr sz="2400"/>
            </a:b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71585"/>
                </a:solidFill>
                <a:latin typeface="AMS"/>
              </a:rPr>
              <a:t>Herzlich Willkommen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71585"/>
                </a:solidFill>
                <a:latin typeface="AMS"/>
              </a:rPr>
              <a:t>zum Kurs &gt;&gt;</a:t>
            </a:r>
            <a:r>
              <a:rPr b="0" lang="en-GB" sz="2400" spc="-1" strike="noStrike">
                <a:solidFill>
                  <a:srgbClr val="ff0000"/>
                </a:solidFill>
                <a:latin typeface="AMS"/>
              </a:rPr>
              <a:t>Aus- bzw. Weiterbildung</a:t>
            </a:r>
            <a:r>
              <a:rPr b="0" lang="en-GB" sz="2400" spc="-1" strike="noStrike">
                <a:solidFill>
                  <a:srgbClr val="271585"/>
                </a:solidFill>
                <a:latin typeface="AMS"/>
              </a:rPr>
              <a:t>&lt;&lt; mit &gt;&gt;</a:t>
            </a:r>
            <a:r>
              <a:rPr b="0" lang="en-GB" sz="2400" spc="-1" strike="noStrike">
                <a:solidFill>
                  <a:srgbClr val="ff0000"/>
                </a:solidFill>
                <a:latin typeface="AMS"/>
              </a:rPr>
              <a:t>Bildungsträger</a:t>
            </a:r>
            <a:r>
              <a:rPr b="0" lang="en-GB" sz="2400" spc="-1" strike="noStrike">
                <a:solidFill>
                  <a:srgbClr val="271585"/>
                </a:solidFill>
                <a:latin typeface="AMS"/>
              </a:rPr>
              <a:t>&lt;&lt;.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e4002d"/>
                </a:solidFill>
                <a:latin typeface="AMS"/>
              </a:rPr>
              <a:t>Ansprechpartner_innen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71585"/>
                </a:solidFill>
                <a:latin typeface="AMS"/>
              </a:rPr>
              <a:t>für Hilfestellungen während der Teilnahme</a:t>
            </a:r>
            <a:br>
              <a:rPr sz="2200"/>
            </a:b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Ihre Trainerin/Ihr Trainer vor Ort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AMS-Kursbetreuer_in (siehe Plakate “Ihre Meinung ist uns wichtig!”)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Ihre Beraterin/Ihr Berater via eAMS Konto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44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C87E-BD39-402D-A125-E91363354010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Förder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71120" y="1844280"/>
            <a:ext cx="773748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71585"/>
                </a:solidFill>
                <a:latin typeface="AMS"/>
              </a:rPr>
              <a:t>Ausbildungskosten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Die Kosten für Ihre Aus- und Weiterbildung werden vom AMS Niederösterreich übernommen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71585"/>
                </a:solidFill>
                <a:latin typeface="AMS"/>
              </a:rPr>
              <a:t>Individualförderungen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z.B.: Existenzsicherung, Kinderbetreuung, Reisekosten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Bitte nehmen Sie umgehend mit Ihrem_r AMS-Berater_in Kontakt auf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3EF6-AE2B-4A9B-B1B6-CCF8007779C3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4480" y="7729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Förderantra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9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23B2-5471-4597-8109-B178590D04A9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5280" y="2205000"/>
            <a:ext cx="773748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798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Falls Sie für Ihren Kursbesuch noch keinen Förderantrag (Begehren) gestellt haben, so tun Sie dies bitte umgehend!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ts val="3798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Sie können diesen am einfachsten über Ihr eAMS - Konto stellen. Ihr_e Trainer_in unterstützt Sie gerne!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Versicher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71585"/>
                </a:solidFill>
                <a:latin typeface="AMS"/>
              </a:rPr>
              <a:t>Versicherung während Ihres Kursbesuchs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71585"/>
                </a:solidFill>
                <a:latin typeface="AMS"/>
              </a:rPr>
              <a:t>Ihre Sozialversicherung enthält: 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71585"/>
                </a:solidFill>
                <a:latin typeface="AMS"/>
              </a:rPr>
              <a:t>Unfallversicherung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71585"/>
                </a:solidFill>
                <a:latin typeface="AMS"/>
              </a:rPr>
              <a:t>Krankenversicherung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71585"/>
                </a:solidFill>
                <a:latin typeface="AMS"/>
              </a:rPr>
              <a:t>Nur bei Anspruch auf Leistungen nach AlVG oder AMSG.</a:t>
            </a:r>
            <a:endParaRPr b="0" lang="en-US" sz="16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53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F1D9-32B1-4294-AB1A-AEA6B65FEE81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Abwesenheiten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55280" y="2060640"/>
            <a:ext cx="7737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Jede Abwesenheit muss bis spätestens 09:00 Uhr</a:t>
            </a:r>
            <a:br>
              <a:rPr sz="2000"/>
            </a:b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bei Ihrem Kursinstitut gemeldet werden</a:t>
            </a:r>
            <a:r>
              <a:rPr b="0" lang="en-GB" sz="2000" spc="-1" strike="noStrike">
                <a:solidFill>
                  <a:srgbClr val="271585"/>
                </a:solidFill>
                <a:latin typeface="AMS"/>
              </a:rPr>
              <a:t> &gt;&gt;</a:t>
            </a:r>
            <a:r>
              <a:rPr b="0" lang="en-GB" sz="2000" spc="-1" strike="noStrike">
                <a:solidFill>
                  <a:srgbClr val="ff0000"/>
                </a:solidFill>
                <a:latin typeface="AMS"/>
              </a:rPr>
              <a:t>Telefonnummer</a:t>
            </a:r>
            <a:r>
              <a:rPr b="0" lang="en-GB" sz="2000" spc="-1" strike="noStrike">
                <a:solidFill>
                  <a:srgbClr val="271585"/>
                </a:solidFill>
                <a:latin typeface="AMS"/>
              </a:rPr>
              <a:t>&lt;&lt;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Für jede Abwesenheit ist eine schriftliche Bestätigung erforderlich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Arztbestätigungen ab dem ersten Tag Krankenstand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Rückmeldung nach einem Krankenstand umgehend und nur im Kurs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Nicht entschuldigte Abwesenheiten führen zum Verlust Ihres Leistungsbezuges!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B84D-61DD-45D8-8C75-1FA8E68381A6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Bewerbung während des Kursbesuchs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71585"/>
                </a:solidFill>
                <a:latin typeface="AMS"/>
              </a:rPr>
              <a:t>Eigene Stellensuche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www.allejobs.at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eJobroom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www.ams.at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Ihr_e Trainer_in unterstützt Sie gerne bei Jobrecherchen, Lebenslauf und Bewerbung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59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999A-94AE-46D0-94B9-0463FF02AD9F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Weiterbildung nach diesem Kurs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Der Besuch eines Folge-Kurses 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ist nur in Absprache mit Ihren 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AMS-Berater_innen möglich.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www.ams.at (AMS Weiterbildungsdatenbank)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62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B502-7A43-4E32-98DE-9D9E07CF84B5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6:52:04Z</dcterms:created>
  <dc:creator>Clara Kobler</dc:creator>
  <dc:description/>
  <dc:language>en-US</dc:language>
  <cp:lastModifiedBy>Arbnor Selimi</cp:lastModifiedBy>
  <cp:lastPrinted>2008-11-24T09:28:01Z</cp:lastPrinted>
  <dcterms:modified xsi:type="dcterms:W3CDTF">2023-02-10T07:32:33Z</dcterms:modified>
  <cp:revision>154</cp:revision>
  <dc:subject/>
  <dc:title>PowerPoint-Präsentation</dc:title>
</cp:coreProperties>
</file>